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7C2-8F17-4696-8787-59D3089F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8E7-0CF1-431B-8A3A-3D0C5254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C5E-6F12-4F40-A773-E07CD08A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1D1-08FC-4B50-80D5-0D964A3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065-A817-46A3-A9D3-9AFBC4A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121-0870-4527-84F0-E23FF59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B7F-15D0-4FD5-BE45-8DD2AA1A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56C-A710-4C2E-AC95-2353744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AD8-41D9-492A-9362-245FF1BB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25E-FB7A-47D1-87CF-FBC0169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03B-08A7-4303-9949-F730BBC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CD8-82E1-437C-B0CE-5EED3A4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F567-020F-4A15-AA14-E31A3C052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Ian Snyder, Shawn An, and Shela W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 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e of evaporation increases as liquid is h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ting causes the particles in a liquid move faster as they absorb the added ener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14 - When a liquid is heated to a temperature at which particles throughout the liquid have enough kinetic energy to vaporize, the liquid begins to bo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15 - Boiling Point: The temperature at which the vapor pressure of the liquid is just equal to the external pressure of the liqu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 and Pressure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 point varies depending on the li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 points decrease at higher altitudes b/c the atmospheric pressure is 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vapor has the same average kinetic energy as the liquid, it’s potential energy is much hig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Boiling Point – The boiling point of a liquid at a pressure of 101.3 k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5334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"/>
              </a:rPr>
              <a:t>The End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51:07Z</dcterms:created>
  <dc:creator>14isnyder</dc:creator>
  <dc:description/>
  <dc:language>en-US</dc:language>
  <cp:lastModifiedBy>14isnyder</cp:lastModifiedBy>
  <dcterms:modified xsi:type="dcterms:W3CDTF">2012-04-26T17:32:39Z</dcterms:modified>
  <cp:revision>3</cp:revision>
  <dc:subject/>
  <dc:title>Boiling Point</dc:title>
</cp:coreProperties>
</file>